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56F-8A12-45C5-A344-8E82CF40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B01-B690-43E3-8171-F946E2BB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B4E-14D2-4889-9D83-312C2F9E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C1D-FD92-47A4-86AC-8CD84C24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E96-A8B5-4234-AB79-996B2C4E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78F-24E3-444A-976F-A47112C1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79D-0FDA-4E6E-99A3-1D6CE74A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755-3320-48BD-AA3E-CE701564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9AA-4923-4BAC-9403-BB1A094B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8B3-CB13-4538-B8FB-4A088A58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3EC-9B6B-420F-888C-75D6D50E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141-EA86-4547-8DE2-FCFBCC57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034B-A712-4127-87F0-498A41942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ИРОДНИ ТОК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РАДИЈЕНТ ИНФЕ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213920"/>
            <a:ext cx="8501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нфекциј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 продирање и развој или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змножавање инфективног агенса у организму човека или животи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је синоним за инфективну боле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оже бит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апарентна (неклиничка, супклиничка, неприметна) без препознатљивих клиничких симптома и знак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нифестна (симптоми и знаци болести уочљиви). Клинички манифестно обољење има лаку, тешку или фаталну форму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Градијент инфе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25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рус рабиј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рус морб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ацил туберкуло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700360" y="5084640"/>
          <a:ext cx="6264360" cy="639720"/>
        </p:xfrm>
        <a:graphic>
          <a:graphicData uri="http://schemas.openxmlformats.org/drawingml/2006/table">
            <a:tbl>
              <a:tblPr/>
              <a:tblGrid>
                <a:gridCol w="3095640"/>
                <a:gridCol w="1297080"/>
                <a:gridCol w="647640"/>
                <a:gridCol w="647640"/>
                <a:gridCol w="57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апарентна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ко обољ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ш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тал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71640" y="1916280"/>
          <a:ext cx="6127560" cy="639720"/>
        </p:xfrm>
        <a:graphic>
          <a:graphicData uri="http://schemas.openxmlformats.org/drawingml/2006/table">
            <a:tbl>
              <a:tblPr/>
              <a:tblGrid>
                <a:gridCol w="1568880"/>
                <a:gridCol w="455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шко обољ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тално обољ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700360" y="3429000"/>
          <a:ext cx="6121440" cy="695160"/>
        </p:xfrm>
        <a:graphic>
          <a:graphicData uri="http://schemas.openxmlformats.org/drawingml/2006/table">
            <a:tbl>
              <a:tblPr/>
              <a:tblGrid>
                <a:gridCol w="1098360"/>
                <a:gridCol w="1019520"/>
                <a:gridCol w="2354040"/>
                <a:gridCol w="1000080"/>
                <a:gridCol w="6494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апа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ко обољ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ено теш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ш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жина клиничке слике зависи 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1. карактеристика и количине аг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вирулентност сој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поједини серотипови аг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2. карактеристика домаћ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уберкулоза (код оболелих од сид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лмонелозе (у особа са српастом анемијом и ахлорхидријо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Феномен леденог бре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08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идљиви 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клинички манифестно обољ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видљиви 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особе са клинички неманифестним обољењ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оболели са благом симптоматологијом који не траже помоћ лека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оболели са погрешном дјагноз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обољење није евидентир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45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еномен леденог бр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Text Placeholder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48904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360" y="1341360"/>
            <a:ext cx="5400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Болести заразне етиологиј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*Туберкулоза, полиомијелитис, менингококни менингитис (90% инфицираних има инапарентну инфекциј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апарентну инфекцију дијагностикујем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кожним пробама (туберкулинске проб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лабораторијски (изолација узрочника или серолош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Болести незаразне етиологиј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*психијатријска обоље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широк дијапазон манифест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ећину чине благе форм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иродни ток болест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2060280"/>
            <a:ext cx="871524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ок болести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Calibri"/>
              </a:rPr>
              <a:t>од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 момента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изложености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 агенсу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Calibri"/>
              </a:rPr>
              <a:t>до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 њеног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исх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Фазе п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иродн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 ток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есимптоматска (преклиничка) фаз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време од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тка излжености агенс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до појаве првих симптома и/или знакова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аза клинички испољене болест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к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предује ка фаталном исх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 подложна ремисијама и рецидивима (егзацербација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нтано се повлачи водећи опорав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родни ток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120" y="2276280"/>
            <a:ext cx="8786880" cy="39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мени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риродни ток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откривањ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јућ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лечењ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Природни ток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ано откривање и одговарајуће лечење мог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пуно спречити настајање манифестне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спорити болест која се испољ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принети успешном излечењ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Природни ток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4500360"/>
            <a:ext cx="42148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иродни ток болести код оболелих од рака цервик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диспла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carcinoma in si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инвазивни карци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4500360"/>
            <a:ext cx="42098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иродни ток исхемичне болести моз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атеросклеротичне промене на каротид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краткотрајни исхемични нап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мождани уда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714240" y="3142800"/>
            <a:ext cx="385848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4571640" y="3142800"/>
            <a:ext cx="3715560" cy="25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56" name="Rectangle 8"/>
          <p:cNvSpPr/>
          <p:nvPr/>
        </p:nvSpPr>
        <p:spPr>
          <a:xfrm>
            <a:off x="357120" y="1643040"/>
            <a:ext cx="1285920" cy="642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Изложеност етиолошком  агенс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000160" y="1643040"/>
            <a:ext cx="1419480" cy="642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атолошке изме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924360" y="1700280"/>
            <a:ext cx="1430280" cy="50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643880" y="1714680"/>
            <a:ext cx="1071360" cy="50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р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5500800" y="1714680"/>
            <a:ext cx="2095560" cy="50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Уобичајено време дијагностиковањ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5929200" y="3786120"/>
            <a:ext cx="242892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линичка фаза боле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714240" y="3786120"/>
            <a:ext cx="2500560" cy="571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симптоматска фаза боле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Straight Arrow Connector 17"/>
          <p:cNvCxnSpPr/>
          <p:nvPr/>
        </p:nvCxnSpPr>
        <p:spPr>
          <a:xfrm flipH="1">
            <a:off x="926280" y="2500200"/>
            <a:ext cx="252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19"/>
          <p:cNvCxnSpPr/>
          <p:nvPr/>
        </p:nvCxnSpPr>
        <p:spPr>
          <a:xfrm flipH="1">
            <a:off x="2714400" y="2500200"/>
            <a:ext cx="216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20"/>
          <p:cNvCxnSpPr/>
          <p:nvPr/>
        </p:nvCxnSpPr>
        <p:spPr>
          <a:xfrm flipH="1">
            <a:off x="4571640" y="2500200"/>
            <a:ext cx="216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21"/>
          <p:cNvCxnSpPr/>
          <p:nvPr/>
        </p:nvCxnSpPr>
        <p:spPr>
          <a:xfrm flipH="1">
            <a:off x="6214680" y="2500200"/>
            <a:ext cx="216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22"/>
          <p:cNvCxnSpPr/>
          <p:nvPr/>
        </p:nvCxnSpPr>
        <p:spPr>
          <a:xfrm flipH="1">
            <a:off x="8143560" y="2500200"/>
            <a:ext cx="2160" cy="2865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23"/>
          <p:cNvCxnSpPr/>
          <p:nvPr/>
        </p:nvCxnSpPr>
        <p:spPr>
          <a:xfrm flipH="1" flipV="1">
            <a:off x="856440" y="3357000"/>
            <a:ext cx="2520" cy="2862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26"/>
          <p:cNvCxnSpPr/>
          <p:nvPr/>
        </p:nvCxnSpPr>
        <p:spPr>
          <a:xfrm flipH="1" flipV="1">
            <a:off x="8214480" y="3357000"/>
            <a:ext cx="2520" cy="2862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РАДИЈЕНТ ИНФЕ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РАДИЈЕНТ ИНФЕ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родни ток болести код заразних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ктар испољавања болести у домаћину тј.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блиц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спољавања болести (креће се од инапарентне инфекције до смртног исхо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ухвата широк дијапазон манифестација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Градијент инфекц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2560" y="1071720"/>
            <a:ext cx="8715240" cy="87120"/>
          </a:xfrm>
          <a:prstGeom prst="rect">
            <a:avLst/>
          </a:prstGeom>
          <a:noFill/>
          <a:ln w="0">
            <a:noFill/>
          </a:ln>
        </p:spPr>
        <p:txBody>
          <a:bodyPr tIns="41400" bIns="414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7"/>
          <p:cNvCxnSpPr/>
          <p:nvPr/>
        </p:nvCxnSpPr>
        <p:spPr>
          <a:xfrm>
            <a:off x="642960" y="4142880"/>
            <a:ext cx="2215440" cy="2520"/>
          </a:xfrm>
          <a:prstGeom prst="straightConnector1">
            <a:avLst/>
          </a:prstGeom>
          <a:ln cap="rnd" w="3492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76" name="Straight Arrow Connector 9"/>
          <p:cNvCxnSpPr/>
          <p:nvPr/>
        </p:nvCxnSpPr>
        <p:spPr>
          <a:xfrm>
            <a:off x="2857680" y="4142880"/>
            <a:ext cx="5644080" cy="2520"/>
          </a:xfrm>
          <a:prstGeom prst="straightConnector1">
            <a:avLst/>
          </a:prstGeom>
          <a:ln cap="rnd" w="3492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77" name="Straight Arrow Connector 12"/>
          <p:cNvCxnSpPr/>
          <p:nvPr/>
        </p:nvCxnSpPr>
        <p:spPr>
          <a:xfrm flipH="1">
            <a:off x="569160" y="3142800"/>
            <a:ext cx="2520" cy="7167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Straight Arrow Connector 13"/>
          <p:cNvCxnSpPr/>
          <p:nvPr/>
        </p:nvCxnSpPr>
        <p:spPr>
          <a:xfrm flipH="1">
            <a:off x="2857320" y="314280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Straight Arrow Connector 14"/>
          <p:cNvCxnSpPr/>
          <p:nvPr/>
        </p:nvCxnSpPr>
        <p:spPr>
          <a:xfrm flipH="1">
            <a:off x="8500680" y="314280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Straight Arrow Connector 15"/>
          <p:cNvCxnSpPr/>
          <p:nvPr/>
        </p:nvCxnSpPr>
        <p:spPr>
          <a:xfrm flipH="1">
            <a:off x="6786360" y="314280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>
            <a:off x="4714560" y="314280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Straight Arrow Connector 17"/>
          <p:cNvCxnSpPr/>
          <p:nvPr/>
        </p:nvCxnSpPr>
        <p:spPr>
          <a:xfrm flipH="1" flipV="1">
            <a:off x="571320" y="4500360"/>
            <a:ext cx="2160" cy="7149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Straight Arrow Connector 19"/>
          <p:cNvCxnSpPr/>
          <p:nvPr/>
        </p:nvCxnSpPr>
        <p:spPr>
          <a:xfrm flipH="1" flipV="1">
            <a:off x="8500680" y="4428360"/>
            <a:ext cx="2160" cy="715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4" name="Straight Arrow Connector 20"/>
          <p:cNvCxnSpPr/>
          <p:nvPr/>
        </p:nvCxnSpPr>
        <p:spPr>
          <a:xfrm flipH="1" flipV="1">
            <a:off x="2857320" y="4500360"/>
            <a:ext cx="2160" cy="7149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5" name="Rectangle 21"/>
          <p:cNvSpPr/>
          <p:nvPr/>
        </p:nvSpPr>
        <p:spPr>
          <a:xfrm>
            <a:off x="785880" y="3002040"/>
            <a:ext cx="1571400" cy="642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апарентна инфек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6858000" y="3000960"/>
            <a:ext cx="1571760" cy="368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рт</a:t>
            </a:r>
            <a:r>
              <a:rPr b="0" lang="sr-C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4929120" y="3002040"/>
            <a:ext cx="1571760" cy="642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ешко обољ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3000240" y="3002040"/>
            <a:ext cx="1571760" cy="642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ако обољ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3143160" y="4645080"/>
            <a:ext cx="5000760" cy="642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линички манифестно обољење (присуство симптома и знакова болес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714240" y="4576320"/>
            <a:ext cx="2000520" cy="119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пклиничка инфекција (без симптома и знако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7:31:48Z</dcterms:created>
  <dc:creator>Goran</dc:creator>
  <dc:description/>
  <dc:language>en-US</dc:language>
  <cp:lastModifiedBy> </cp:lastModifiedBy>
  <dcterms:modified xsi:type="dcterms:W3CDTF">2015-09-05T07:25:12Z</dcterms:modified>
  <cp:revision>20</cp:revision>
  <dc:subject/>
  <dc:title>Природни ток болести</dc:title>
</cp:coreProperties>
</file>